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C09-67B0-4880-84FA-F693BDA6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D04-65CC-45B5-AF37-06AF103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38EA-B83D-4C7A-8493-7103DA24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4A4-C9CD-40C0-A875-8EBA2D56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731F-3CFA-4A4A-8810-7304ADEF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0F23-C00F-4622-A2E3-6E7E2B4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DFFC-7983-4510-813F-CA2AFDF6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2E99-1409-4DD8-A09A-1375F84A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21A8-8EB2-4358-8B92-0FAD3043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7850-E352-403D-A9FF-8CDA56C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AD1D-3EAD-4491-B4C8-478B13FC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CB1-9648-4906-A2BB-952CF02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8DB-F92D-4554-AC6D-FDD5F67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4CD3-1593-48C0-B1D6-2DB27F38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4B25-3CDC-42D3-AAEF-54D90A24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34BE-A87B-4299-8D60-BCF1BA8B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4FD-197F-46B5-B4E2-653E1BE4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65F-5790-42A3-B032-5E8B8E6C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6FF-6D76-4683-87AB-CE53C401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F56-59BD-4F67-92E4-7796C8C3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F03-949F-47E5-B218-B3285C7D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6DB7-597B-4336-8DA9-C170FEE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9D1-1293-442B-B07F-D86AC7A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13D-1335-4A13-B437-C3A7923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4073-3B92-4703-BB27-7C37AF198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849A-EBE3-47EB-9BDA-DBADB68F33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 Black"/>
              </a:rPr>
              <a:t>Ecology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46280" y="1981080"/>
            <a:ext cx="384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 adaptations that make cacti successful in the des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me with greatest species diver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rm used to describe the top layer of frozen soil in the tund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umber of organisms in a population an ecosystem can indefinitely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population growth seen when resources are plentiful and no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curve that represents population growth when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rganisms that start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me for stable ecosystem reached at the end of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ose, long-term relationship between 2 or more spec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humans and e-coli in intesti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03320"/>
          <a:ext cx="9144000" cy="6754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giraffes and oxpeck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remora and sha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a tick and a hu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organisms of the same species that live in the same area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populations living in an ecosystem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hysical location where an organism l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re an organism lives; what it eats; when it reproduces; who it mates wi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other term for decompo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cess by which C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obtained from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ning of fossil fu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level of the pyramid that has the highest amount of en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o ammo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 ways carbon is returned to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ammonia back to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that is lost with each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name given to animals that only eat other anim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term for the total weight of living organisms within a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lost by the 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f the available energy in the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s 10,0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ome most common in the Midwestern United St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trees whose branches can bend to resist weight of sn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8:35:08Z</dcterms:created>
  <dc:creator>jayoig</dc:creator>
  <dc:description/>
  <dc:language>en-US</dc:language>
  <cp:lastModifiedBy>jayoig</cp:lastModifiedBy>
  <dcterms:modified xsi:type="dcterms:W3CDTF">2006-11-14T20:23:32Z</dcterms:modified>
  <cp:revision>4</cp:revision>
  <dc:subject/>
  <dc:title>Ecology</dc:title>
</cp:coreProperties>
</file>